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jeop.wav" ContentType="audio/x-wav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7738-F249-45E6-9D96-8FD948607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6222-0097-4C6D-9465-1125A4A81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7EC2-C03E-45B6-A429-945C4BD73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9FF1-3827-479D-9B05-155F1A74A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54651-3EC6-4738-925C-BD471C24F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A0B71-91F8-4E26-8CED-0C3169A1A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73432-B995-47B7-948D-1DD9A00BC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C84E9-46CF-40FA-BBE1-E16534382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49DB0-419A-4901-89D5-ECCDBD4C2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A5790-77C7-4E3C-AEB5-2376B7BC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9D093-4087-48A5-98CC-380912BB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2007-95E4-4E9E-AEF5-F6213AB42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0AB49-ACA3-4FF5-A25A-AB424680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24BEC-356B-4466-B6A7-161BD4E0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36F3C-598C-420B-ACD3-1C69DCB95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E5523-442A-48CD-A2AA-9EAFF46B3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442A6-1F52-445D-9EBB-1F1E572BA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DFD4-DF7A-43AD-8365-0D720872A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244A-195A-4ED2-927E-0A9447FF2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04B8-3052-4F43-B047-FFE25EE10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C92F-1392-4D8A-A982-BE1FFE40F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8D5B-4111-4C57-BB6B-2037EDC2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93A0-FACB-448B-8820-D531BB22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48A0-21F6-41B8-AD53-11FD5D4E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8F578-E8A3-4D4F-A499-4F8E0A0164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FD856-5AA0-4F01-AF21-61420B2677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4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44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18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48.xml"/><Relationship Id="rId24" Type="http://schemas.openxmlformats.org/officeDocument/2006/relationships/slide" Target="slide20.xml"/><Relationship Id="rId25" Type="http://schemas.openxmlformats.org/officeDocument/2006/relationships/slide" Target="slide30.xml"/><Relationship Id="rId26" Type="http://schemas.openxmlformats.org/officeDocument/2006/relationships/slide" Target="slide40.xml"/><Relationship Id="rId27" Type="http://schemas.openxmlformats.org/officeDocument/2006/relationships/slide" Target="slide50.xml"/><Relationship Id="rId28" Type="http://schemas.openxmlformats.org/officeDocument/2006/relationships/audio" Target="../media/jeop.wav"/><Relationship Id="rId2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Jeopardy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62120" y="1533600"/>
          <a:ext cx="7775280" cy="463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33600"/>
                    <a:ext cx="777528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899280" y="17524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62320" y="17524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6920" y="17524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94960" y="17524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42880" y="1752480"/>
            <a:ext cx="144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70160" y="6324480"/>
            <a:ext cx="198684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9960" y="2438280"/>
            <a:ext cx="8619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author wrote, “If one man kills another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t  murder, but if a hundred thousand men ki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other hundred thousand, it is considered 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ct of glory!?”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7467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" fill="hold"/>
                                        <p:tgtEl>
                                          <p:spTgt spid="2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 Answe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505520" y="2766960"/>
            <a:ext cx="4193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o is Tolsto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The book i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ingdom of Go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Connie Campbell</cp:lastModifiedBy>
  <dcterms:modified xsi:type="dcterms:W3CDTF">2002-05-31T21:44:21Z</dcterms:modified>
  <cp:revision>14</cp:revision>
  <dc:subject/>
  <dc:title>Jeopardy</dc:title>
</cp:coreProperties>
</file>